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A2C-E0D3-43AD-84DB-C6551C1E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069-4B38-4A27-A332-8DA5AD08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196-F178-46A6-8BD2-69E23C1A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A21F-37A9-4DDD-A54A-E9168F01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650E-544B-4685-AD4E-32AE7C92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93CE-F33A-4462-91FA-6BD48B50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1B8E-EBFC-4FCC-B6AB-C4F4D32A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9B87-6FD9-465E-BB8E-BBDAF973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D0B0-6201-4F7B-9333-B479FED3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A506-A9C7-440C-A673-0ED27AE3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17E8-22EC-40C9-8CC5-C6D0E238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048-7D57-4DD0-8977-B014FA22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8836-C799-4497-A2AF-8E6BEFAD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ACA6-E629-4009-8DED-AB5AA3CF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6F0F-98F9-416D-9D1E-A492B888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FD21-C4CB-477B-A08D-670CA97E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D2AA-EDF9-4330-A9B2-455DB297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3F92-70BB-44CA-B6FB-F859FADA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C07-FF6F-4638-8DA7-BE4AE913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18B5-111E-4A97-B7CD-FCDDCEB4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97E-C77C-4B65-B35B-E56207E1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F38A-40BA-40D9-B830-9265A6D0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80A9-E08C-4BAB-A70A-7E254922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74A-3EAB-4A02-B368-FDB8108E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434F-1708-4792-BE08-C39132C581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3C0A-83D7-44D0-BC1A-B6CA6CA09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00F2-C70A-4C21-ABA5-0BCBC1D897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8148-C317-4514-8F54-731547925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PROPOSED FTT DIRECTIV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M(2011) 594 of 28.09.2011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890120" y="26028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2193A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9246-80A2-4D57-917A-2C71F012F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ACT EXPECTED BY THE COMMISSION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48392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venue estimation: ≈ €55 bn annually, depending on market reactions and effectiveness of tax colle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Market reaction / functioning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securities markets is assumed to decline by up to 20%, namely with respect to the segment of HF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derivatives markets is expected to decline by up to 90% in some market segments, especially in the market segment of HFT and highly-leverag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act on financial centre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ortant decline in the (inflated) turnover in some market segments (namely HFT and highly-leveraged product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Need for adjusting business models to the new tax environ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mall impact on employ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B6B7-377B-4E06-93DE-60B2085AD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HE COMMISSION’S MOTIVATION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Ensure that the financial sector makes a fair contribution at a time of fiscal consolidation in the Member States, assuming that the financial sector is currently under-taxed vis-à-vis other sector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trengthen the EU Single Market by setting up a harmonized framework to tax financial transaction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help reduce competitive distortion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deter from excessive risk-taking activitie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complement regulatory measures aimed at prevent future crises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promote common rules for the introduction of a FTT at global level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8702-9473-4C9B-B83C-04C0C9E9B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ESIDENCE PRINCIPLE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7280" y="1341000"/>
            <a:ext cx="867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least one of the parties to transaction needs to be “established in a MS”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“financial institution” “established in MS” conce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s party to the transaction acting either for its own accou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for the account of another pers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is acting in the name of a party to th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s a rule “establishment of financial institution” determines which MS has to tax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financial institution is not considered to be established in a MS in case it proves that there is no link between the economic substance of the transaction and the territory of any M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268B-ACD1-454F-BF11-890ECCABB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COLLECTION &amp; ADMINISTRATION </a:t>
            </a:r>
            <a:br>
              <a:rPr sz="3200"/>
            </a:b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OF THE TAX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Focus on Financial Institutions, broadly defined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ax chargeable event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= Execution of a financial transaction involving an EU Financial Institu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Liability of Financial Institutions for the payment of the FTT to tax authorit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the moment of the tax chargeable event in case of electronic financial transac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within three working days from chargeability in all other cas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Joint liability of each party to the transaction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03BF-DE7B-47B4-8A2B-4C10C2E4B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SCOPE OF THE TAX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Broad based approach in terms of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struments 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actions (both organised markets and OTC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ference to relevant regulatory EU framework used as much as possible for definition of financial instruments and “Financial transactions”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urchase and sale of transferable securities, money-market instruments, units and shares in collective investment undertakings, structur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ecurities lending and borrowing and repo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nclusion/Modification and trading of derivatives agreemen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fers of financial instruments between group entities (other than purchase and sale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derivatives agreement resulting in a sale or purchase of a financial instrument (physical settlement) triggers additional taxabl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6288-8745-4479-8887-BA3E936B1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OUT OF SCOP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SMEs and Private Household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nterprise borrowing/lending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Mortgage loan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onsumer credi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nsurance contrac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ayment transactions, etc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large and international busines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ot currency transactions (as opposed to currency derivative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rimary market transactions for raising capital through the issuing of shares and bonds (except for shares and units of collective investment undertaking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public borrow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ssuing of government bond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monetary policy and post-trad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Transactions with ECB, Central Banks of Member Stat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FSF (not considered to be a financial institution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entral Counter Parties (idem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0C4C-8B62-4C49-9A4D-B1FF8308A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AXABLE BAS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Financial transactions other than those related to 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or owed for the transfer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Market price (= at arm’s length price) in case :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for transfer is lower than market price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Or transfers of financial instruments between entities of a group in case they do not constitute a « purchase or a sale »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Notional amount of the derivatives agreement (underlying notional or face amount that is used to calculate payments made on a given derivatives agreement)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Common provision on exchange rate to be applied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Taxing gross transactions before netting and settlement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5A4C-D620-4A96-879C-6EA3A2AC9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ATE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inancial instruments other than derivatives and derivatives are different in nature/economic value/taxable amount =&gt; rates to be differentiated between two categor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Level of rates defined in the Proposal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would guarantee a part of revenue for the EU budget and a part for the Member States’ budge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sufficiently high for harmonisation objectiv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low enough to avoid excessive market reactions and reloc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ax rates: 0,01% for derivatives and 0,1% for other transactions (for each taxable party to the transact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haracter of the rate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inimum r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ne single rate (for each of the two product group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3649-EE83-42EF-983C-E4F6DDA2A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LEMENTATION CALENDAR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oposed implementation as of 1 January 2014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view clause: after five years, first time by 31/12/ 2016, report on application of FTT, possibly with a modification proposa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B0CD-9067-4F49-82ED-50B11B3A5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25:09Z</dcterms:created>
  <dc:creator>Mireille Thiery</dc:creator>
  <dc:description/>
  <dc:language>en-US</dc:language>
  <cp:lastModifiedBy>Mireille Thiery</cp:lastModifiedBy>
  <dcterms:modified xsi:type="dcterms:W3CDTF">2011-12-08T09:57:40Z</dcterms:modified>
  <cp:revision>44</cp:revision>
  <dc:subject/>
  <dc:title>Slide 1</dc:title>
</cp:coreProperties>
</file>